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THE HAMSTER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4757760" cy="468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19280" y="1979640"/>
            <a:ext cx="575928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FOOD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hamster eats seeds and sunflower see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Sometimes eats fruit such as apples and pea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0720" y="3959280"/>
            <a:ext cx="37796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CHARACTERISTIC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hamsters are small rodent and mamma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hairy bod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feed their young with milk, like all mamma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HOM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503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hamster lives in burrows underground chambers composed of several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503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hamsters hibernate during the winter, but tend to wake up to eat the food store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503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Young hamsters are weaned at two or three weeks; shortly after they built their own burrow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DISEAS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207612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503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Hamsters  are susceptible to common cold have a runny nose, sneezing, otitis media, fever and neupmania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59280" y="3060720"/>
            <a:ext cx="3060720" cy="37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60360" y="378000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Boingo"/>
              </a:rPr>
              <a:t>THE END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8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THIS PRESENTATION WAS MADE BY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LAURA, ANA, SALVA AND MAXIM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60720" y="3600360"/>
            <a:ext cx="3959280" cy="306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1:06:12Z</dcterms:created>
  <dc:creator/>
  <dc:description>Presentación general de una novedad considerando los deseos de los clientes</dc:description>
  <dc:language>en-US</dc:language>
  <cp:lastModifiedBy>Inma Carmona López</cp:lastModifiedBy>
  <dcterms:modified xsi:type="dcterms:W3CDTF">2010-06-04T21:03:13Z</dcterms:modified>
  <cp:revision>10</cp:revision>
  <dc:subject/>
  <dc:title>Presentación de una novedad</dc:title>
</cp:coreProperties>
</file>